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wmf" ContentType="image/x-wmf"/>
  <Override PartName="/ppt/media/image7.png" ContentType="image/png"/>
  <Override PartName="/ppt/media/image1.jpeg" ContentType="image/jpe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F786-62DB-459B-9CC8-BDC0E89DC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3B7B-4CF8-43B7-B736-E9EAC152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B004-629E-4838-9540-F3DE98D1C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C19B-E9E6-4A32-BA68-DCE9A1977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1A46-C5E2-4044-BD09-0976BE86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4814-459F-4AA5-B4BD-BDCEFB09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B3E0-C906-4590-A573-87118865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8DD0-90A3-45AE-A2E6-C8678BAE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A943-53AA-4726-A856-D7334960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40D7-A309-48F7-A62C-F5E94282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F6A0-8125-4D19-8D87-8837F1C2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2D69-42F0-40DE-9454-93BAFEA0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1F7A-024A-4675-9457-FFB732CDC52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nts and Settings\Ana Nina\Desktop\Pictur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000000"/>
                </a:solidFill>
                <a:latin typeface="Calibri"/>
              </a:rPr>
              <a:t>МЕХАНОТЕРАПИЈ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1051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ања Зечевић Лукови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Хипобаричне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процедур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743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куса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Vaskul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скулато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МАНУЕЛНЕ</a:t>
            </a:r>
            <a:r>
              <a:rPr b="0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ТЕРАПИЈСКЕ</a:t>
            </a:r>
            <a:r>
              <a:rPr b="0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ТЕХН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440" y="1904760"/>
            <a:ext cx="4343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манипул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ce YU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трак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2438280" y="4343400"/>
            <a:ext cx="541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3" descr=""/>
          <p:cNvPicPr/>
          <p:nvPr/>
        </p:nvPicPr>
        <p:blipFill>
          <a:blip r:embed="rId1"/>
          <a:stretch/>
        </p:blipFill>
        <p:spPr>
          <a:xfrm>
            <a:off x="5334120" y="426708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"/>
          <p:cNvPicPr/>
          <p:nvPr/>
        </p:nvPicPr>
        <p:blipFill>
          <a:blip r:embed="rId2"/>
          <a:stretch/>
        </p:blipFill>
        <p:spPr>
          <a:xfrm>
            <a:off x="5257800" y="1447920"/>
            <a:ext cx="3276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Екстензионе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процедуре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тракциј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2133720"/>
            <a:ext cx="5715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Екстензија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асивна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инезитерапијска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цеду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већати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тервертебрални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стор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1,5–2,5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мм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ширују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тервертебрални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твори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орамина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тервертебралиа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еблокирају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дњи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тервертебрални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пофизни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глобови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сној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натомској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ези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пиналним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реновима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стеже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игаментни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пар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Trakcija vrata"/>
          <p:cNvPicPr/>
          <p:nvPr/>
        </p:nvPicPr>
        <p:blipFill>
          <a:blip r:embed="rId1"/>
          <a:srcRect l="6576" t="4539" r="6978" b="1037"/>
          <a:stretch/>
        </p:blipFill>
        <p:spPr>
          <a:xfrm>
            <a:off x="6781680" y="0"/>
            <a:ext cx="2362320" cy="3240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dp_latcutaway-BB"/>
          <p:cNvPicPr/>
          <p:nvPr/>
        </p:nvPicPr>
        <p:blipFill>
          <a:blip r:embed="rId2"/>
          <a:srcRect l="0" t="0" r="7143" b="0"/>
          <a:stretch/>
        </p:blipFill>
        <p:spPr>
          <a:xfrm>
            <a:off x="5183280" y="6629400"/>
            <a:ext cx="3960720" cy="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Екстензиј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бит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2209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Трај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Континуира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Интермитентн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 – 60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 30–60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ц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Сукцесивно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прогресив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ндикације за екстензиј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егенеративн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мен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ичмено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туб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Discus hern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аз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ункционалн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локад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тепе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fasse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синдром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индр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iliolumb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Контраиндикације за екстензиј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iscus hern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перациј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уберколозн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пондилити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умор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рактур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зраже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стеопороз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ојерманов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олес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нгвинал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кротал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ерни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ж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рча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лућ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бољењ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рудноћ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back_pain_with_spine"/>
          <p:cNvPicPr/>
          <p:nvPr/>
        </p:nvPicPr>
        <p:blipFill>
          <a:blip r:embed="rId1"/>
          <a:stretch/>
        </p:blipFill>
        <p:spPr>
          <a:xfrm>
            <a:off x="7010280" y="24382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НОТЕРАП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-360" y="22856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онотерапиј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подразумев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примену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звук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у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терапијск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врх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Под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звучном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енергијом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подразумев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облик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France YU"/>
                <a:ea typeface="Times New Roman"/>
              </a:rPr>
              <a:t>таласастог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France YU"/>
                <a:ea typeface="Times New Roman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France YU"/>
                <a:ea typeface="Times New Roman"/>
              </a:rPr>
              <a:t>кретањ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представљен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лонгитудиналним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механичким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треперењем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честиц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материј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кој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у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виду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France YU"/>
                <a:ea typeface="Times New Roman"/>
              </a:rPr>
              <a:t>згушњавањ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France YU"/>
                <a:ea typeface="Times New Roman"/>
              </a:rPr>
              <a:t>разређивањ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простир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кроз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гасовиту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течну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чврсту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редину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Брзин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простирањ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завис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од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фреквенциј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таласн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дужи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7" descr="kosovka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 Black"/>
              </a:rPr>
              <a:t>УВ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4648320" y="4495680"/>
            <a:ext cx="4495680" cy="137160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"/>
          <p:cNvGrpSpPr/>
          <p:nvPr/>
        </p:nvGrpSpPr>
        <p:grpSpPr>
          <a:xfrm>
            <a:off x="990720" y="4724280"/>
            <a:ext cx="7086240" cy="1524240"/>
            <a:chOff x="990720" y="4724280"/>
            <a:chExt cx="7086240" cy="1524240"/>
          </a:xfrm>
        </p:grpSpPr>
        <p:sp>
          <p:nvSpPr>
            <p:cNvPr id="89" name="Text Box 5"/>
            <p:cNvSpPr/>
            <p:nvPr/>
          </p:nvSpPr>
          <p:spPr>
            <a:xfrm>
              <a:off x="2328480" y="5929560"/>
              <a:ext cx="46951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6"/>
            <p:cNvSpPr/>
            <p:nvPr/>
          </p:nvSpPr>
          <p:spPr>
            <a:xfrm>
              <a:off x="2091240" y="4724280"/>
              <a:ext cx="52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7"/>
            <p:cNvSpPr/>
            <p:nvPr/>
          </p:nvSpPr>
          <p:spPr>
            <a:xfrm>
              <a:off x="2423160" y="5220360"/>
              <a:ext cx="0" cy="531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8"/>
            <p:cNvSpPr/>
            <p:nvPr/>
          </p:nvSpPr>
          <p:spPr>
            <a:xfrm>
              <a:off x="990720" y="4866120"/>
              <a:ext cx="119556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Правац осциловања честиц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9"/>
            <p:cNvSpPr/>
            <p:nvPr/>
          </p:nvSpPr>
          <p:spPr>
            <a:xfrm flipV="1">
              <a:off x="1949040" y="4830480"/>
              <a:ext cx="379080" cy="17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0"/>
            <p:cNvSpPr/>
            <p:nvPr/>
          </p:nvSpPr>
          <p:spPr>
            <a:xfrm>
              <a:off x="1901520" y="5326920"/>
              <a:ext cx="379440" cy="21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1"/>
            <p:cNvSpPr/>
            <p:nvPr/>
          </p:nvSpPr>
          <p:spPr>
            <a:xfrm>
              <a:off x="6881400" y="4901400"/>
              <a:ext cx="119556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Правац простирања талас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ext Box 12"/>
          <p:cNvSpPr/>
          <p:nvPr/>
        </p:nvSpPr>
        <p:spPr>
          <a:xfrm>
            <a:off x="76320" y="3930480"/>
            <a:ext cx="906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ЗВУК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МЕХАНИЧКИ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ЛОНГИТУДИНАЛНИ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ТАЛАС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ФРЕКВЕНТНОГ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ОПСЕГА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 20 – 20.000 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3"/>
          <p:cNvGrpSpPr/>
          <p:nvPr/>
        </p:nvGrpSpPr>
        <p:grpSpPr>
          <a:xfrm>
            <a:off x="2590920" y="1981080"/>
            <a:ext cx="3886200" cy="2210040"/>
            <a:chOff x="2590920" y="1981080"/>
            <a:chExt cx="3886200" cy="2210040"/>
          </a:xfrm>
        </p:grpSpPr>
        <p:grpSp>
          <p:nvGrpSpPr>
            <p:cNvPr id="98" name="Group 14"/>
            <p:cNvGrpSpPr/>
            <p:nvPr/>
          </p:nvGrpSpPr>
          <p:grpSpPr>
            <a:xfrm>
              <a:off x="3312360" y="2075400"/>
              <a:ext cx="2456640" cy="330120"/>
              <a:chOff x="3312360" y="2075400"/>
              <a:chExt cx="2456640" cy="330120"/>
            </a:xfrm>
          </p:grpSpPr>
          <p:grpSp>
            <p:nvGrpSpPr>
              <p:cNvPr id="99" name="Group 15"/>
              <p:cNvGrpSpPr/>
              <p:nvPr/>
            </p:nvGrpSpPr>
            <p:grpSpPr>
              <a:xfrm>
                <a:off x="4196160" y="2075400"/>
                <a:ext cx="736920" cy="330120"/>
                <a:chOff x="4196160" y="2075400"/>
                <a:chExt cx="736920" cy="330120"/>
              </a:xfrm>
            </p:grpSpPr>
            <p:grpSp>
              <p:nvGrpSpPr>
                <p:cNvPr id="100" name="Group 16"/>
                <p:cNvGrpSpPr/>
                <p:nvPr/>
              </p:nvGrpSpPr>
              <p:grpSpPr>
                <a:xfrm>
                  <a:off x="4380480" y="2075400"/>
                  <a:ext cx="368280" cy="164880"/>
                  <a:chOff x="4380480" y="2075400"/>
                  <a:chExt cx="368280" cy="164880"/>
                </a:xfrm>
              </p:grpSpPr>
              <p:sp>
                <p:nvSpPr>
                  <p:cNvPr id="101" name="Freeform 17"/>
                  <p:cNvSpPr/>
                  <p:nvPr/>
                </p:nvSpPr>
                <p:spPr>
                  <a:xfrm>
                    <a:off x="4380480" y="2075400"/>
                    <a:ext cx="183960" cy="1648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Freeform 18"/>
                  <p:cNvSpPr/>
                  <p:nvPr/>
                </p:nvSpPr>
                <p:spPr>
                  <a:xfrm flipH="1">
                    <a:off x="4564440" y="2075400"/>
                    <a:ext cx="184320" cy="1648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" name="Freeform 19"/>
                <p:cNvSpPr/>
                <p:nvPr/>
              </p:nvSpPr>
              <p:spPr>
                <a:xfrm flipV="1">
                  <a:off x="4749120" y="2240280"/>
                  <a:ext cx="183960" cy="164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" name="Group 20"/>
                <p:cNvGrpSpPr/>
                <p:nvPr/>
              </p:nvGrpSpPr>
              <p:grpSpPr>
                <a:xfrm>
                  <a:off x="4380480" y="2075400"/>
                  <a:ext cx="368280" cy="164880"/>
                  <a:chOff x="4380480" y="2075400"/>
                  <a:chExt cx="368280" cy="164880"/>
                </a:xfrm>
              </p:grpSpPr>
              <p:sp>
                <p:nvSpPr>
                  <p:cNvPr id="105" name="Freeform 21"/>
                  <p:cNvSpPr/>
                  <p:nvPr/>
                </p:nvSpPr>
                <p:spPr>
                  <a:xfrm>
                    <a:off x="4380480" y="2075400"/>
                    <a:ext cx="183960" cy="1648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22"/>
                  <p:cNvSpPr/>
                  <p:nvPr/>
                </p:nvSpPr>
                <p:spPr>
                  <a:xfrm flipH="1">
                    <a:off x="4564440" y="2075400"/>
                    <a:ext cx="184320" cy="1648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" name="Freeform 23"/>
                <p:cNvSpPr/>
                <p:nvPr/>
              </p:nvSpPr>
              <p:spPr>
                <a:xfrm flipV="1">
                  <a:off x="4749120" y="2240280"/>
                  <a:ext cx="183960" cy="164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24"/>
                <p:cNvSpPr/>
                <p:nvPr/>
              </p:nvSpPr>
              <p:spPr>
                <a:xfrm flipH="1" flipV="1">
                  <a:off x="4195800" y="2240640"/>
                  <a:ext cx="183960" cy="164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" name="Line 25"/>
              <p:cNvSpPr/>
              <p:nvPr/>
            </p:nvSpPr>
            <p:spPr>
              <a:xfrm>
                <a:off x="3312360" y="2405520"/>
                <a:ext cx="88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26"/>
              <p:cNvSpPr/>
              <p:nvPr/>
            </p:nvSpPr>
            <p:spPr>
              <a:xfrm>
                <a:off x="4933800" y="2405520"/>
                <a:ext cx="83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Text Box 27"/>
            <p:cNvSpPr/>
            <p:nvPr/>
          </p:nvSpPr>
          <p:spPr>
            <a:xfrm>
              <a:off x="2820960" y="2122560"/>
              <a:ext cx="49104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8"/>
            <p:cNvSpPr/>
            <p:nvPr/>
          </p:nvSpPr>
          <p:spPr>
            <a:xfrm>
              <a:off x="2820960" y="2831040"/>
              <a:ext cx="49104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b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Group 29"/>
            <p:cNvGrpSpPr/>
            <p:nvPr/>
          </p:nvGrpSpPr>
          <p:grpSpPr>
            <a:xfrm>
              <a:off x="3490920" y="2972520"/>
              <a:ext cx="692280" cy="565920"/>
              <a:chOff x="3490920" y="2972520"/>
              <a:chExt cx="692280" cy="565920"/>
            </a:xfrm>
          </p:grpSpPr>
          <p:grpSp>
            <p:nvGrpSpPr>
              <p:cNvPr id="114" name="Group 30"/>
              <p:cNvGrpSpPr/>
              <p:nvPr/>
            </p:nvGrpSpPr>
            <p:grpSpPr>
              <a:xfrm>
                <a:off x="3490920" y="2972520"/>
                <a:ext cx="345960" cy="283320"/>
                <a:chOff x="3490920" y="2972520"/>
                <a:chExt cx="345960" cy="283320"/>
              </a:xfrm>
            </p:grpSpPr>
            <p:sp>
              <p:nvSpPr>
                <p:cNvPr id="115" name="Freeform 31"/>
                <p:cNvSpPr/>
                <p:nvPr/>
              </p:nvSpPr>
              <p:spPr>
                <a:xfrm>
                  <a:off x="3490920" y="29728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32"/>
                <p:cNvSpPr/>
                <p:nvPr/>
              </p:nvSpPr>
              <p:spPr>
                <a:xfrm flipH="1">
                  <a:off x="3663360" y="297252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33"/>
              <p:cNvGrpSpPr/>
              <p:nvPr/>
            </p:nvGrpSpPr>
            <p:grpSpPr>
              <a:xfrm>
                <a:off x="3837240" y="3255120"/>
                <a:ext cx="345960" cy="283320"/>
                <a:chOff x="3837240" y="3255120"/>
                <a:chExt cx="345960" cy="283320"/>
              </a:xfrm>
            </p:grpSpPr>
            <p:sp>
              <p:nvSpPr>
                <p:cNvPr id="118" name="Freeform 34"/>
                <p:cNvSpPr/>
                <p:nvPr/>
              </p:nvSpPr>
              <p:spPr>
                <a:xfrm flipV="1">
                  <a:off x="3837240" y="325512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Freeform 35"/>
                <p:cNvSpPr/>
                <p:nvPr/>
              </p:nvSpPr>
              <p:spPr>
                <a:xfrm flipH="1" flipV="1">
                  <a:off x="4009680" y="32554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36"/>
              <p:cNvGrpSpPr/>
              <p:nvPr/>
            </p:nvGrpSpPr>
            <p:grpSpPr>
              <a:xfrm>
                <a:off x="3490920" y="2972520"/>
                <a:ext cx="345960" cy="283320"/>
                <a:chOff x="3490920" y="2972520"/>
                <a:chExt cx="345960" cy="283320"/>
              </a:xfrm>
            </p:grpSpPr>
            <p:sp>
              <p:nvSpPr>
                <p:cNvPr id="121" name="Freeform 37"/>
                <p:cNvSpPr/>
                <p:nvPr/>
              </p:nvSpPr>
              <p:spPr>
                <a:xfrm>
                  <a:off x="3490920" y="29728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38"/>
                <p:cNvSpPr/>
                <p:nvPr/>
              </p:nvSpPr>
              <p:spPr>
                <a:xfrm flipH="1">
                  <a:off x="3663360" y="297252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39"/>
              <p:cNvGrpSpPr/>
              <p:nvPr/>
            </p:nvGrpSpPr>
            <p:grpSpPr>
              <a:xfrm>
                <a:off x="3837240" y="3255120"/>
                <a:ext cx="345960" cy="283320"/>
                <a:chOff x="3837240" y="3255120"/>
                <a:chExt cx="345960" cy="283320"/>
              </a:xfrm>
            </p:grpSpPr>
            <p:sp>
              <p:nvSpPr>
                <p:cNvPr id="124" name="Freeform 40"/>
                <p:cNvSpPr/>
                <p:nvPr/>
              </p:nvSpPr>
              <p:spPr>
                <a:xfrm flipV="1">
                  <a:off x="3837240" y="325512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41"/>
                <p:cNvSpPr/>
                <p:nvPr/>
              </p:nvSpPr>
              <p:spPr>
                <a:xfrm flipH="1" flipV="1">
                  <a:off x="4009680" y="32554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42"/>
            <p:cNvGrpSpPr/>
            <p:nvPr/>
          </p:nvGrpSpPr>
          <p:grpSpPr>
            <a:xfrm>
              <a:off x="4183920" y="2972520"/>
              <a:ext cx="691200" cy="565920"/>
              <a:chOff x="4183920" y="2972520"/>
              <a:chExt cx="691200" cy="565920"/>
            </a:xfrm>
          </p:grpSpPr>
          <p:grpSp>
            <p:nvGrpSpPr>
              <p:cNvPr id="127" name="Group 43"/>
              <p:cNvGrpSpPr/>
              <p:nvPr/>
            </p:nvGrpSpPr>
            <p:grpSpPr>
              <a:xfrm>
                <a:off x="4183920" y="2972520"/>
                <a:ext cx="345600" cy="283320"/>
                <a:chOff x="4183920" y="2972520"/>
                <a:chExt cx="345600" cy="283320"/>
              </a:xfrm>
            </p:grpSpPr>
            <p:sp>
              <p:nvSpPr>
                <p:cNvPr id="128" name="Freeform 44"/>
                <p:cNvSpPr/>
                <p:nvPr/>
              </p:nvSpPr>
              <p:spPr>
                <a:xfrm>
                  <a:off x="4183920" y="2972880"/>
                  <a:ext cx="17280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45"/>
                <p:cNvSpPr/>
                <p:nvPr/>
              </p:nvSpPr>
              <p:spPr>
                <a:xfrm flipH="1">
                  <a:off x="4356720" y="2972520"/>
                  <a:ext cx="17280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Group 46"/>
              <p:cNvGrpSpPr/>
              <p:nvPr/>
            </p:nvGrpSpPr>
            <p:grpSpPr>
              <a:xfrm>
                <a:off x="4529520" y="3255120"/>
                <a:ext cx="345600" cy="283320"/>
                <a:chOff x="4529520" y="3255120"/>
                <a:chExt cx="345600" cy="283320"/>
              </a:xfrm>
            </p:grpSpPr>
            <p:sp>
              <p:nvSpPr>
                <p:cNvPr id="131" name="Freeform 47"/>
                <p:cNvSpPr/>
                <p:nvPr/>
              </p:nvSpPr>
              <p:spPr>
                <a:xfrm flipV="1">
                  <a:off x="4529520" y="3255120"/>
                  <a:ext cx="17280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Freeform 48"/>
                <p:cNvSpPr/>
                <p:nvPr/>
              </p:nvSpPr>
              <p:spPr>
                <a:xfrm flipH="1" flipV="1">
                  <a:off x="4701600" y="32554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Group 49"/>
              <p:cNvGrpSpPr/>
              <p:nvPr/>
            </p:nvGrpSpPr>
            <p:grpSpPr>
              <a:xfrm>
                <a:off x="4183920" y="2972520"/>
                <a:ext cx="345600" cy="283320"/>
                <a:chOff x="4183920" y="2972520"/>
                <a:chExt cx="345600" cy="283320"/>
              </a:xfrm>
            </p:grpSpPr>
            <p:sp>
              <p:nvSpPr>
                <p:cNvPr id="134" name="Freeform 50"/>
                <p:cNvSpPr/>
                <p:nvPr/>
              </p:nvSpPr>
              <p:spPr>
                <a:xfrm>
                  <a:off x="4183920" y="2972880"/>
                  <a:ext cx="17280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Freeform 51"/>
                <p:cNvSpPr/>
                <p:nvPr/>
              </p:nvSpPr>
              <p:spPr>
                <a:xfrm flipH="1">
                  <a:off x="4356720" y="2972520"/>
                  <a:ext cx="17280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Group 52"/>
              <p:cNvGrpSpPr/>
              <p:nvPr/>
            </p:nvGrpSpPr>
            <p:grpSpPr>
              <a:xfrm>
                <a:off x="4529520" y="3255120"/>
                <a:ext cx="345600" cy="283320"/>
                <a:chOff x="4529520" y="3255120"/>
                <a:chExt cx="345600" cy="283320"/>
              </a:xfrm>
            </p:grpSpPr>
            <p:sp>
              <p:nvSpPr>
                <p:cNvPr id="137" name="Freeform 53"/>
                <p:cNvSpPr/>
                <p:nvPr/>
              </p:nvSpPr>
              <p:spPr>
                <a:xfrm flipV="1">
                  <a:off x="4529520" y="3255120"/>
                  <a:ext cx="17280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54"/>
                <p:cNvSpPr/>
                <p:nvPr/>
              </p:nvSpPr>
              <p:spPr>
                <a:xfrm flipH="1" flipV="1">
                  <a:off x="4701600" y="32554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55"/>
            <p:cNvGrpSpPr/>
            <p:nvPr/>
          </p:nvGrpSpPr>
          <p:grpSpPr>
            <a:xfrm>
              <a:off x="4875840" y="2972520"/>
              <a:ext cx="692280" cy="565920"/>
              <a:chOff x="4875840" y="2972520"/>
              <a:chExt cx="692280" cy="565920"/>
            </a:xfrm>
          </p:grpSpPr>
          <p:grpSp>
            <p:nvGrpSpPr>
              <p:cNvPr id="140" name="Group 56"/>
              <p:cNvGrpSpPr/>
              <p:nvPr/>
            </p:nvGrpSpPr>
            <p:grpSpPr>
              <a:xfrm>
                <a:off x="4875840" y="2972520"/>
                <a:ext cx="345960" cy="283320"/>
                <a:chOff x="4875840" y="2972520"/>
                <a:chExt cx="345960" cy="283320"/>
              </a:xfrm>
            </p:grpSpPr>
            <p:sp>
              <p:nvSpPr>
                <p:cNvPr id="141" name="Freeform 57"/>
                <p:cNvSpPr/>
                <p:nvPr/>
              </p:nvSpPr>
              <p:spPr>
                <a:xfrm>
                  <a:off x="4875840" y="29728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58"/>
                <p:cNvSpPr/>
                <p:nvPr/>
              </p:nvSpPr>
              <p:spPr>
                <a:xfrm flipH="1">
                  <a:off x="5048280" y="297252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Group 59"/>
              <p:cNvGrpSpPr/>
              <p:nvPr/>
            </p:nvGrpSpPr>
            <p:grpSpPr>
              <a:xfrm>
                <a:off x="5222160" y="3255120"/>
                <a:ext cx="345960" cy="283320"/>
                <a:chOff x="5222160" y="3255120"/>
                <a:chExt cx="345960" cy="283320"/>
              </a:xfrm>
            </p:grpSpPr>
            <p:sp>
              <p:nvSpPr>
                <p:cNvPr id="144" name="Freeform 60"/>
                <p:cNvSpPr/>
                <p:nvPr/>
              </p:nvSpPr>
              <p:spPr>
                <a:xfrm flipV="1">
                  <a:off x="5222160" y="325512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61"/>
                <p:cNvSpPr/>
                <p:nvPr/>
              </p:nvSpPr>
              <p:spPr>
                <a:xfrm flipH="1" flipV="1">
                  <a:off x="5394600" y="32554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" name="Group 62"/>
              <p:cNvGrpSpPr/>
              <p:nvPr/>
            </p:nvGrpSpPr>
            <p:grpSpPr>
              <a:xfrm>
                <a:off x="4875840" y="2972520"/>
                <a:ext cx="345960" cy="283320"/>
                <a:chOff x="4875840" y="2972520"/>
                <a:chExt cx="345960" cy="283320"/>
              </a:xfrm>
            </p:grpSpPr>
            <p:sp>
              <p:nvSpPr>
                <p:cNvPr id="147" name="Freeform 63"/>
                <p:cNvSpPr/>
                <p:nvPr/>
              </p:nvSpPr>
              <p:spPr>
                <a:xfrm>
                  <a:off x="4875840" y="29728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64"/>
                <p:cNvSpPr/>
                <p:nvPr/>
              </p:nvSpPr>
              <p:spPr>
                <a:xfrm flipH="1">
                  <a:off x="5048280" y="297252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" name="Group 65"/>
              <p:cNvGrpSpPr/>
              <p:nvPr/>
            </p:nvGrpSpPr>
            <p:grpSpPr>
              <a:xfrm>
                <a:off x="5222160" y="3255120"/>
                <a:ext cx="345960" cy="283320"/>
                <a:chOff x="5222160" y="3255120"/>
                <a:chExt cx="345960" cy="283320"/>
              </a:xfrm>
            </p:grpSpPr>
            <p:sp>
              <p:nvSpPr>
                <p:cNvPr id="150" name="Freeform 66"/>
                <p:cNvSpPr/>
                <p:nvPr/>
              </p:nvSpPr>
              <p:spPr>
                <a:xfrm flipV="1">
                  <a:off x="5222160" y="325512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Freeform 67"/>
                <p:cNvSpPr/>
                <p:nvPr/>
              </p:nvSpPr>
              <p:spPr>
                <a:xfrm flipH="1" flipV="1">
                  <a:off x="5394600" y="32554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" name="Text Box 68"/>
            <p:cNvSpPr/>
            <p:nvPr/>
          </p:nvSpPr>
          <p:spPr>
            <a:xfrm>
              <a:off x="4027320" y="3350160"/>
              <a:ext cx="58032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cc00"/>
                  </a:solidFill>
                  <a:latin typeface="Arial"/>
                </a:rPr>
                <a:t>t=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69"/>
            <p:cNvSpPr/>
            <p:nvPr/>
          </p:nvSpPr>
          <p:spPr>
            <a:xfrm>
              <a:off x="3312360" y="3255840"/>
              <a:ext cx="245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70"/>
            <p:cNvSpPr/>
            <p:nvPr/>
          </p:nvSpPr>
          <p:spPr>
            <a:xfrm>
              <a:off x="3490920" y="2783520"/>
              <a:ext cx="0" cy="99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71"/>
            <p:cNvSpPr/>
            <p:nvPr/>
          </p:nvSpPr>
          <p:spPr>
            <a:xfrm>
              <a:off x="3044520" y="3303000"/>
              <a:ext cx="58068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cc00"/>
                  </a:solidFill>
                  <a:latin typeface="Arial"/>
                </a:rPr>
                <a:t>t=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72"/>
            <p:cNvSpPr/>
            <p:nvPr/>
          </p:nvSpPr>
          <p:spPr>
            <a:xfrm flipV="1">
              <a:off x="3312360" y="3255480"/>
              <a:ext cx="17856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73"/>
            <p:cNvSpPr/>
            <p:nvPr/>
          </p:nvSpPr>
          <p:spPr>
            <a:xfrm flipH="1" flipV="1">
              <a:off x="4205520" y="3255840"/>
              <a:ext cx="44280" cy="18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74"/>
            <p:cNvSpPr/>
            <p:nvPr/>
          </p:nvSpPr>
          <p:spPr>
            <a:xfrm>
              <a:off x="3669840" y="2783520"/>
              <a:ext cx="0" cy="18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75"/>
            <p:cNvSpPr/>
            <p:nvPr/>
          </p:nvSpPr>
          <p:spPr>
            <a:xfrm>
              <a:off x="4339800" y="2783520"/>
              <a:ext cx="0" cy="18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76"/>
            <p:cNvSpPr/>
            <p:nvPr/>
          </p:nvSpPr>
          <p:spPr>
            <a:xfrm>
              <a:off x="3669840" y="2878200"/>
              <a:ext cx="22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77"/>
            <p:cNvSpPr/>
            <p:nvPr/>
          </p:nvSpPr>
          <p:spPr>
            <a:xfrm>
              <a:off x="4116600" y="2878200"/>
              <a:ext cx="22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78"/>
            <p:cNvSpPr/>
            <p:nvPr/>
          </p:nvSpPr>
          <p:spPr>
            <a:xfrm>
              <a:off x="3848400" y="2689200"/>
              <a:ext cx="4467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79"/>
            <p:cNvSpPr/>
            <p:nvPr/>
          </p:nvSpPr>
          <p:spPr>
            <a:xfrm>
              <a:off x="5099400" y="2642040"/>
              <a:ext cx="84852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v =</a:t>
              </a:r>
              <a:r>
                <a:rPr b="1" lang="en-US" sz="14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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80"/>
            <p:cNvSpPr/>
            <p:nvPr/>
          </p:nvSpPr>
          <p:spPr>
            <a:xfrm>
              <a:off x="4741920" y="2831040"/>
              <a:ext cx="446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81"/>
            <p:cNvSpPr/>
            <p:nvPr/>
          </p:nvSpPr>
          <p:spPr>
            <a:xfrm>
              <a:off x="5724720" y="3066840"/>
              <a:ext cx="49104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cc00"/>
                  </a:solidFill>
                  <a:latin typeface="Arial"/>
                </a:rPr>
                <a:t>x, 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82"/>
            <p:cNvSpPr/>
            <p:nvPr/>
          </p:nvSpPr>
          <p:spPr>
            <a:xfrm>
              <a:off x="3223080" y="2594880"/>
              <a:ext cx="49104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cc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83"/>
            <p:cNvSpPr/>
            <p:nvPr/>
          </p:nvSpPr>
          <p:spPr>
            <a:xfrm>
              <a:off x="2590920" y="3766320"/>
              <a:ext cx="388620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84"/>
            <p:cNvSpPr/>
            <p:nvPr/>
          </p:nvSpPr>
          <p:spPr>
            <a:xfrm>
              <a:off x="4920480" y="2169720"/>
              <a:ext cx="446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85"/>
            <p:cNvSpPr/>
            <p:nvPr/>
          </p:nvSpPr>
          <p:spPr>
            <a:xfrm>
              <a:off x="5322600" y="1981080"/>
              <a:ext cx="4467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v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86"/>
          <p:cNvSpPr/>
          <p:nvPr/>
        </p:nvSpPr>
        <p:spPr>
          <a:xfrm>
            <a:off x="990720" y="1371600"/>
            <a:ext cx="716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 Black"/>
              </a:rPr>
              <a:t>МЕХАНИЧКИ</a:t>
            </a:r>
            <a:r>
              <a:rPr b="1" lang="sr-Latn-C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 Black"/>
              </a:rPr>
              <a:t>ТАЛАСИ</a:t>
            </a:r>
            <a:r>
              <a:rPr b="1" lang="sr-Latn-CS" sz="16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1" lang="sr-CS" sz="1600" spc="-1" strike="noStrike">
                <a:solidFill>
                  <a:srgbClr val="000000"/>
                </a:solidFill>
                <a:latin typeface="Arial Black"/>
              </a:rPr>
              <a:t>ОСНОВНЕ</a:t>
            </a:r>
            <a:r>
              <a:rPr b="1" lang="sr-Latn-C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 Black"/>
              </a:rPr>
              <a:t>КАРАКТЕРИСТИ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 Black"/>
              </a:rPr>
              <a:t>ЗВУК</a:t>
            </a:r>
            <a:r>
              <a:rPr b="1" lang="sl-SI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 Black"/>
              </a:rPr>
              <a:t>И</a:t>
            </a:r>
            <a:r>
              <a:rPr b="1" lang="sl-SI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 Black"/>
              </a:rPr>
              <a:t>УЛТРАЗВУ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0" y="1828800"/>
            <a:ext cx="1981080" cy="27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Зв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Ултразв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2057400" y="2057400"/>
            <a:ext cx="2971800" cy="25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Фреквен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20-20.000 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20.000 Hz – 10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4876920" y="1447920"/>
            <a:ext cx="4267080" cy="29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нтенз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2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W/m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10 W/m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Дијагностичк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10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- 40 W/m</a:t>
            </a:r>
            <a:r>
              <a:rPr b="1" lang="sl-SI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Терапеутски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1.000 W/m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3200400" y="5638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870 K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римарно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деловањ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ултразвук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438280" y="175248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ханич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ов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рмич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ов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изикохемијс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ов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урорефлекс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ов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Секундарна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деловања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ултразву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066680" y="2285640"/>
            <a:ext cx="7315200" cy="4267080"/>
          </a:xfrm>
          <a:prstGeom prst="rect">
            <a:avLst/>
          </a:prstGeom>
          <a:noFill/>
          <a:ln w="7632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налгетс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азмолитич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нтиинфламатор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импатиколитич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бољш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кроциркулац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офик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генерац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ки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ибринолитич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МЕХАНОТЕРАП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914400" y="1905120"/>
            <a:ext cx="7467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ануелна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асаж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пецијални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облици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аса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апаратурна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асаж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хипобаричне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роцед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ануелне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терапијске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технике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анипулације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есктензионе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роцедуре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тракције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онотерапија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нфра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ултразвук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Нежељен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дејств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онотерап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51920" y="2514240"/>
            <a:ext cx="48769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еноме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витац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з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Апарат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ултразву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7632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чин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бијањ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ханич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агнетостриктив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лектромеханич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етодик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римен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ултразву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абил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абил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ирект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убаквал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 u="sng">
                <a:solidFill>
                  <a:srgbClr val="000000"/>
                </a:solidFill>
                <a:uFillTx/>
                <a:latin typeface="Calibri"/>
              </a:rPr>
              <a:t>Сонофоре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28600" y="18284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к који се уноси обично је у облику масти или креме и најчешће се користе следећи леков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omucasae, hylase, hidrocortison, a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нтиреуматске креме..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ретман се изводи лабилном методом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о контактни медијум се корист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ковита крема или мас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Дозирање сонотерап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Количин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примљен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доз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авис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Интензитета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(W/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цм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Површине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преко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апликује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цм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Времена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трајања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апликације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мин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Броја да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Индикације</a:t>
            </a:r>
            <a:r>
              <a:rPr b="1" lang="sr-Latn-CS" sz="4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за</a:t>
            </a:r>
            <a:r>
              <a:rPr b="1" lang="sr-Latn-CS" sz="4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онотерапију</a:t>
            </a:r>
            <a:r>
              <a:rPr b="0" lang="en-GB" sz="4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елоиди и ожиљц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Dupuytren-ova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онтрактур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артроз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 RA, Mb Bechter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тендовагинитис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 PAHS,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епикондилитис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онтрактур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осттрауматска стања и њихове компликациј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неуралгиј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аузалгиј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окцигодиниј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разарање камен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, Mb Meniere,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операције хипофиз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France YU"/>
                <a:ea typeface="Times New Roman"/>
              </a:rPr>
              <a:t>Контраиндикације</a:t>
            </a:r>
            <a:r>
              <a:rPr b="1" lang="sr-Latn-CS" sz="36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France YU"/>
                <a:ea typeface="Times New Roman"/>
              </a:rPr>
              <a:t>за</a:t>
            </a:r>
            <a:r>
              <a:rPr b="1" lang="sr-Latn-CS" sz="36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онотерапију</a:t>
            </a:r>
            <a:r>
              <a:rPr b="0" lang="en-GB" sz="36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c0504d"/>
                </a:solidFill>
                <a:latin typeface="France YU"/>
                <a:ea typeface="Times New Roman"/>
              </a:rPr>
              <a:t>не</a:t>
            </a:r>
            <a:r>
              <a:rPr b="1" lang="sr-Latn-CS" sz="3200" spc="-1" strike="noStrike">
                <a:solidFill>
                  <a:srgbClr val="c0504d"/>
                </a:solidFill>
                <a:latin typeface="France YU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c0504d"/>
                </a:solidFill>
                <a:latin typeface="France YU"/>
                <a:ea typeface="Times New Roman"/>
              </a:rPr>
              <a:t>примењује</a:t>
            </a:r>
            <a:r>
              <a:rPr b="1" lang="sr-Latn-CS" sz="3200" spc="-1" strike="noStrike">
                <a:solidFill>
                  <a:srgbClr val="c0504d"/>
                </a:solidFill>
                <a:latin typeface="France YU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c0504d"/>
                </a:solidFill>
                <a:latin typeface="France YU"/>
                <a:ea typeface="Times New Roman"/>
              </a:rPr>
              <a:t>се</a:t>
            </a:r>
            <a:r>
              <a:rPr b="1" lang="sr-Latn-CS" sz="3200" spc="-1" strike="noStrike">
                <a:solidFill>
                  <a:srgbClr val="c0504d"/>
                </a:solidFill>
                <a:latin typeface="France YU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у</a:t>
            </a:r>
            <a:r>
              <a:rPr b="1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пределу</a:t>
            </a:r>
            <a:r>
              <a:rPr b="1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главе</a:t>
            </a:r>
            <a:r>
              <a:rPr b="1" lang="sr-Latn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(</a:t>
            </a:r>
            <a:r>
              <a:rPr b="1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линија</a:t>
            </a:r>
            <a:r>
              <a:rPr b="1" lang="sr-Latn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раста</a:t>
            </a:r>
            <a:r>
              <a:rPr b="1" lang="sr-Latn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косе</a:t>
            </a:r>
            <a:r>
              <a:rPr b="1" lang="sr-Latn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)</a:t>
            </a:r>
            <a:r>
              <a:rPr b="1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, </a:t>
            </a:r>
            <a:r>
              <a:rPr b="1" lang="sr-Latn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medulae</a:t>
            </a:r>
            <a:r>
              <a:rPr b="1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spinalis</a:t>
            </a:r>
            <a:r>
              <a:rPr b="1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, </a:t>
            </a:r>
            <a:r>
              <a:rPr b="1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гравидне</a:t>
            </a:r>
            <a:r>
              <a:rPr b="1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материце</a:t>
            </a:r>
            <a:r>
              <a:rPr b="1" lang="sr-Latn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и</a:t>
            </a:r>
            <a:r>
              <a:rPr b="1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у</a:t>
            </a:r>
            <a:r>
              <a:rPr b="1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дечјем</a:t>
            </a:r>
            <a:r>
              <a:rPr b="1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узрасту</a:t>
            </a:r>
            <a:r>
              <a:rPr b="1" lang="sr-Latn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(</a:t>
            </a:r>
            <a:r>
              <a:rPr b="1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зоне</a:t>
            </a:r>
            <a:r>
              <a:rPr b="1" lang="sr-Latn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раста</a:t>
            </a:r>
            <a:r>
              <a:rPr b="1" lang="sr-Latn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присуство</a:t>
            </a:r>
            <a:r>
              <a:rPr b="1" lang="sr-Latn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метала</a:t>
            </a:r>
            <a:r>
              <a:rPr b="1" lang="sr-Latn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у</a:t>
            </a:r>
            <a:r>
              <a:rPr b="1" lang="sr-Latn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пољу</a:t>
            </a:r>
            <a:r>
              <a:rPr b="1" lang="sr-Latn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c0504d"/>
                </a:solidFill>
                <a:latin typeface="France YU"/>
                <a:ea typeface="Times New Roman"/>
              </a:rPr>
              <a:t>није</a:t>
            </a:r>
            <a:r>
              <a:rPr b="1" lang="sr-Latn-CS" sz="3200" spc="-1" strike="noStrike">
                <a:solidFill>
                  <a:srgbClr val="c0504d"/>
                </a:solidFill>
                <a:latin typeface="France YU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c0504d"/>
                </a:solidFill>
                <a:latin typeface="France YU"/>
                <a:ea typeface="Times New Roman"/>
              </a:rPr>
              <a:t>контраиндик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онтраиникациј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онотерапиј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ебрилна ст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омбофлебити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рваре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клоно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рварењ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теопоро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кут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фектив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ољ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БЦ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ронхијектаз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лигните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компензац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итални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ргана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 u="sng">
                <a:solidFill>
                  <a:srgbClr val="000000"/>
                </a:solidFill>
                <a:uFillTx/>
                <a:latin typeface="Calibri"/>
              </a:rPr>
              <a:t>МАНУЕЛНА</a:t>
            </a:r>
            <a:r>
              <a:rPr b="1" lang="en-US" sz="5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r-CS" sz="5000" spc="-1" strike="noStrike" u="sng">
                <a:solidFill>
                  <a:srgbClr val="000000"/>
                </a:solidFill>
                <a:uFillTx/>
                <a:latin typeface="Calibri"/>
              </a:rPr>
              <a:t>МАСАЖА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3809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рапијск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асаж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портск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асаж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игијенск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асаж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00100000"/>
          <p:cNvPicPr/>
          <p:nvPr/>
        </p:nvPicPr>
        <p:blipFill>
          <a:blip r:embed="rId1"/>
          <a:stretch/>
        </p:blipFill>
        <p:spPr>
          <a:xfrm>
            <a:off x="5877000" y="2919240"/>
            <a:ext cx="1581120" cy="1886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masaza02"/>
          <p:cNvPicPr/>
          <p:nvPr/>
        </p:nvPicPr>
        <p:blipFill>
          <a:blip r:embed="rId2"/>
          <a:stretch/>
        </p:blipFill>
        <p:spPr>
          <a:xfrm>
            <a:off x="3886200" y="198108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Хватови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класичне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мануелне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масаж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2093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ЛАЂЕ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- EFFLEU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Љ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- FRI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ЊЕЧЕ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- PETRIS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УПК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- TAPOTMENT ili PERC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ИБРАЦ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- VIB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Дејства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разних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облика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масаже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Rey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600200"/>
          <a:ext cx="8229600" cy="4992840"/>
        </p:xfrm>
        <a:graphic>
          <a:graphicData uri="http://schemas.openxmlformats.org/drawingml/2006/table">
            <a:tbl>
              <a:tblPr/>
              <a:tblGrid>
                <a:gridCol w="1905120"/>
                <a:gridCol w="1452600"/>
                <a:gridCol w="1900080"/>
                <a:gridCol w="2971800"/>
              </a:tblGrid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Делова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ватови масаж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Ткива на која делу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Утицај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Седатив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Глађе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Површина кож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Преко нервних завршета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Површно трља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Кожа и поткожно тки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На све елементе које обухватају ови слоје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Стимулатор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Дубоко трља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Сви слојеви меких тк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На све елементе у њи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Гњече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Мека тк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Утицај изражен нарочито на мишићне парт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Лупка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Мека тк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Стимулише мишиће који реагују лаким контракција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Индика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За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општу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масаж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Реконвалесцен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Зам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Неуроциркуалторн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дистон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За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локалну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масаж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осттрауматск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стањ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Реуматск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обољењ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Локалн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отоц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едем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Цервикалн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лумбалн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синдром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Млитав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спастичк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арез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арализ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Увод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кинезитерапиј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Контраиндикације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за масаж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фебралн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њ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кутн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разн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олест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кутн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паљенск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цес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рочито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нојн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рварењ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клонос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рварењ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лимфангитис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ромбофлебитис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ражен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ширењ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ен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неуризм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алиг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умор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бољењ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ж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фролитијаз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олелитијаз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АПАРАТУРНА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МАСАЖА</a:t>
            </a:r>
            <a:br>
              <a:rPr sz="2600"/>
            </a:b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Апарат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ВИБРОМАСАЖЕР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7" descr="Aparaturna masaza"/>
          <p:cNvPicPr/>
          <p:nvPr/>
        </p:nvPicPr>
        <p:blipFill>
          <a:blip r:embed="rId1"/>
          <a:srcRect l="4208" t="44173" r="6312" b="3473"/>
          <a:stretch/>
        </p:blipFill>
        <p:spPr>
          <a:xfrm>
            <a:off x="457200" y="1447920"/>
            <a:ext cx="3817800" cy="75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Aparaturna masaza"/>
          <p:cNvPicPr/>
          <p:nvPr/>
        </p:nvPicPr>
        <p:blipFill>
          <a:blip r:embed="rId2"/>
          <a:srcRect l="0" t="59975" r="6179" b="0"/>
          <a:stretch/>
        </p:blipFill>
        <p:spPr>
          <a:xfrm>
            <a:off x="4343400" y="1371600"/>
            <a:ext cx="3673440" cy="38419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228600" y="518148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ишењ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аг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ол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локалн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налгезија)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окалн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тивн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иперемиј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бољшање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ћелијског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таболизм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лиминациј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тетних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зградних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дукат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толошког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цес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ИДРОМАСАЖ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2408040"/>
            <a:ext cx="480060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Тушев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Шкотски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туш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Шарков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туш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Бисерн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ка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Подводн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масаж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Вртложне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куп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3962520" y="2130480"/>
          <a:ext cx="4697280" cy="328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130480"/>
                    <a:ext cx="4697280" cy="32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9:38:32Z</dcterms:created>
  <dc:creator>Veljkovic Miodrag</dc:creator>
  <dc:description/>
  <dc:language>en-US</dc:language>
  <cp:lastModifiedBy>veliki</cp:lastModifiedBy>
  <dcterms:modified xsi:type="dcterms:W3CDTF">2014-02-12T14:53:48Z</dcterms:modified>
  <cp:revision>61</cp:revision>
  <dc:subject/>
  <dc:title>MEHANOTERAPIJA</dc:title>
</cp:coreProperties>
</file>